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911160" y="608040"/>
            <a:ext cx="802656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Utiliser la barre des tâ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203040" y="2390760"/>
            <a:ext cx="9687240" cy="952560"/>
          </a:xfrm>
          <a:prstGeom prst="rect">
            <a:avLst/>
          </a:prstGeom>
          <a:ln w="0">
            <a:noFill/>
          </a:ln>
        </p:spPr>
      </p:pic>
      <p:sp>
        <p:nvSpPr>
          <p:cNvPr id="38" name=""/>
          <p:cNvSpPr/>
          <p:nvPr/>
        </p:nvSpPr>
        <p:spPr>
          <a:xfrm>
            <a:off x="973080" y="5227560"/>
            <a:ext cx="800568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ur changer de logiciel, vous allez cliquer sur l'un ou l'autre des deux bout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 flipH="1" flipV="1">
            <a:off x="3382560" y="3239640"/>
            <a:ext cx="731880" cy="1746360"/>
          </a:xfrm>
          <a:prstGeom prst="line">
            <a:avLst/>
          </a:prstGeom>
          <a:ln w="14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 flipV="1">
            <a:off x="4094280" y="3260880"/>
            <a:ext cx="141120" cy="1766880"/>
          </a:xfrm>
          <a:prstGeom prst="line">
            <a:avLst/>
          </a:prstGeom>
          <a:ln w="14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643200" y="2573280"/>
            <a:ext cx="1216080" cy="1216080"/>
          </a:xfrm>
          <a:prstGeom prst="ellipse">
            <a:avLst/>
          </a:prstGeom>
          <a:noFill/>
          <a:ln w="7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49640" y="2513160"/>
            <a:ext cx="1377720" cy="1296720"/>
          </a:xfrm>
          <a:prstGeom prst="ellipse">
            <a:avLst/>
          </a:prstGeom>
          <a:noFill/>
          <a:ln w="7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1160" y="608040"/>
            <a:ext cx="802656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e moteur exal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6640" y="2635200"/>
            <a:ext cx="9099720" cy="2067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 flipV="1">
            <a:off x="4782960" y="4173120"/>
            <a:ext cx="1800" cy="1522440"/>
          </a:xfrm>
          <a:prstGeom prst="line">
            <a:avLst/>
          </a:prstGeom>
          <a:ln w="14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5520" y="5754600"/>
            <a:ext cx="881532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mier type de sélection : linguistique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quez sur « sites français seulement 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1160" y="1600200"/>
            <a:ext cx="5391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</a:rPr>
              <a:t>http://www.exalead.fr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1160" y="608040"/>
            <a:ext cx="802656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1. incivilit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57480" y="1411200"/>
            <a:ext cx="2803320" cy="2803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551640" y="2114640"/>
            <a:ext cx="958680" cy="958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43120" y="4457880"/>
            <a:ext cx="24321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95 réfé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61040" y="4459320"/>
            <a:ext cx="2371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réfé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2120" y="5410080"/>
            <a:ext cx="944424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s ensembles représentent le nombre de pages (ou références) dans lequel on trouve le mot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 incivilit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1558800" y="3706560"/>
            <a:ext cx="23760" cy="1827000"/>
          </a:xfrm>
          <a:prstGeom prst="line">
            <a:avLst/>
          </a:prstGeom>
          <a:ln w="14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2960" y="608040"/>
            <a:ext cx="802620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2. incivilité ET vil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73400" y="2716200"/>
            <a:ext cx="1865160" cy="1865160"/>
          </a:xfrm>
          <a:prstGeom prst="ellipse">
            <a:avLst/>
          </a:prstGeom>
          <a:noFill/>
          <a:ln w="14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86240" y="3837960"/>
            <a:ext cx="4824360" cy="491760"/>
          </a:xfrm>
          <a:prstGeom prst="ellipse">
            <a:avLst/>
          </a:prstGeom>
          <a:noFill/>
          <a:ln w="144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2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9120" y="4957920"/>
            <a:ext cx="9748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56200" y="2165400"/>
            <a:ext cx="801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264200" y="2819520"/>
            <a:ext cx="93168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934320" y="3962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4572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iv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12960" y="608040"/>
            <a:ext cx="802620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3. incivilité SAUF vil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41600" y="2122560"/>
            <a:ext cx="1689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U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3048120"/>
            <a:ext cx="2286000" cy="2133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2133720"/>
            <a:ext cx="4191120" cy="4419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038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iv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3962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254400" cy="2714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47920" y="4495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iv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12960" y="609480"/>
            <a:ext cx="802620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4. incivilité OU incivilité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29000" y="2122560"/>
            <a:ext cx="117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3124080"/>
            <a:ext cx="2210040" cy="221004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2743200"/>
            <a:ext cx="3733560" cy="380988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3505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iv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24680" y="2438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ivi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77720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286000" y="449532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12960" y="609480"/>
            <a:ext cx="802620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5. Tronc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3124080"/>
            <a:ext cx="2210040" cy="221004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2743200"/>
            <a:ext cx="3733560" cy="380988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2438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ivi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4495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civ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2122560"/>
            <a:ext cx="2679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civilité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772040" y="2819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286000" y="449532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209680" y="1676520"/>
            <a:ext cx="4648320" cy="426708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838080"/>
            <a:ext cx="267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ivilis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vi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2590920"/>
            <a:ext cx="1219320" cy="45720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990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vilis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952880" y="1295280"/>
            <a:ext cx="1447920" cy="137160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2895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vilisat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105160" y="3124080"/>
            <a:ext cx="2438280" cy="83844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3505320"/>
            <a:ext cx="2362320" cy="190476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828800" y="5257440"/>
            <a:ext cx="1295280" cy="114300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6400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vili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10280" y="4876920"/>
            <a:ext cx="3070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les conjugaisons du v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les pluri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les fémin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714640" y="5029200"/>
            <a:ext cx="1219320" cy="53352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13716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6880" y="2438280"/>
            <a:ext cx="1752840" cy="13716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057400"/>
            <a:ext cx="1676520" cy="167652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3505320"/>
            <a:ext cx="2286000" cy="137160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2133720"/>
            <a:ext cx="4419720" cy="35812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86000"/>
            <a:ext cx="6346800" cy="40384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3581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o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3452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ol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1371600"/>
            <a:ext cx="4648320" cy="4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iolence ET scolai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477120"/>
            <a:ext cx="3353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violence scolaire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2960" y="609480"/>
            <a:ext cx="802620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6.Expression et proximit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974680" cy="3733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200400" y="1905120"/>
            <a:ext cx="182880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43200" y="4495320"/>
            <a:ext cx="1828800" cy="2133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6477120"/>
            <a:ext cx="426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Violence NEAR scolai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23920" y="5257440"/>
            <a:ext cx="11430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eignan</cp:lastModifiedBy>
  <dcterms:modified xsi:type="dcterms:W3CDTF">2005-03-29T07:04:42Z</dcterms:modified>
  <cp:revision>6</cp:revision>
  <dc:subject/>
  <dc:title>Aucun titre de diapositive</dc:title>
</cp:coreProperties>
</file>