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B674-310A-4CFD-8290-BA3C7047F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049-312F-42AA-9415-10D4CA55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4F8-0EBE-45BD-A852-8C841092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DBAF-993E-4C1E-BED1-44902011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A0C-A710-4C4B-AAD8-BC53658A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A28-AAD2-440F-A7CA-1084882B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CBA-5741-4436-B613-C7656ECE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1F0E-B201-417D-B74E-B405EBC6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DC9-DB02-44F0-922B-8F8A9197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61CD-E5F2-4EC3-B91E-6FE77DA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4AEF-9F35-4C40-B3E5-690D8A8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3E2-2559-4954-88E4-C17D58A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0E70-0418-4319-89ED-9E3A13CB7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yc.immac/cdi/etousauf.ppt" TargetMode="External"/><Relationship Id="rId2" Type="http://schemas.openxmlformats.org/officeDocument/2006/relationships/hyperlink" Target="http://lyc.immac/cdi/notice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1430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ion Exale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2514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Opérateurs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he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276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Noti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3962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ermes associ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5:11:45Z</dcterms:created>
  <dc:creator>Isabelle - Fabre / Richard peirano</dc:creator>
  <dc:description/>
  <dc:language>en-US</dc:language>
  <cp:lastModifiedBy>payoux</cp:lastModifiedBy>
  <dcterms:modified xsi:type="dcterms:W3CDTF">2005-06-07T16:13:47Z</dcterms:modified>
  <cp:revision>7</cp:revision>
  <dc:subject/>
  <dc:title>Aucun titre de diapositive</dc:title>
</cp:coreProperties>
</file>