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E23C-426F-4CC7-817F-7620ACD26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C67E-A676-4FC0-BBB5-7ECA0C847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088F-B201-42B2-BC4D-01EE8EEA1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5E77-BE90-425E-8FD8-11F973BA7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982F-BC43-4AEC-AD35-63114333A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E868-12BC-468C-8BF1-97FDF4C8E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AD48-D062-4CC6-9138-5A605A6A1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7E81-7F17-4004-BBF3-F6F2D33BE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CD7C-C3D2-46FA-B4C1-704A6D9AC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260D-D0DD-41B2-AFD3-1C785686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092E-780F-43B6-B517-8871A4D2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2D7B-15E5-4B0C-A827-487938DB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1F2B6-2727-41CD-911B-EC90E67371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h1%20incivilité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8153280" cy="5210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11160" y="608040"/>
            <a:ext cx="8026560" cy="6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Verdana"/>
              </a:rPr>
              <a:t>Rechercher avec "civilité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90920" y="1219320"/>
            <a:ext cx="1523880" cy="91440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15000" y="1143000"/>
            <a:ext cx="1523880" cy="91440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286000" y="20574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rech7%20incivilité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5943600" cy="4276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911160" y="608040"/>
            <a:ext cx="8026560" cy="6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Verdana"/>
              </a:rPr>
              <a:t>pour élargir la recherc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2743200"/>
            <a:ext cx="2361960" cy="2654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n obtient ainsi l'ensemble des pages du réper-toire cliqué dans lesquelles le mot clé "incivilité " est pré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723920" y="3048120"/>
            <a:ext cx="1752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4419360" y="3505320"/>
            <a:ext cx="205740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962160" y="3505320"/>
            <a:ext cx="2514600" cy="1218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572000" y="3505320"/>
            <a:ext cx="190512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0120" y="5410080"/>
            <a:ext cx="0" cy="6098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990360" y="6019920"/>
            <a:ext cx="6629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990720" y="2743200"/>
            <a:ext cx="0" cy="3276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1160" y="608040"/>
            <a:ext cx="8026560" cy="6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Verdana"/>
              </a:rPr>
              <a:t>Notice exalead /// BCD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rech2%20incivilité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8305560" cy="1700280"/>
          </a:xfrm>
          <a:prstGeom prst="rect">
            <a:avLst/>
          </a:prstGeom>
          <a:ln w="0">
            <a:noFill/>
          </a:ln>
        </p:spPr>
      </p:pic>
      <p:pic>
        <p:nvPicPr>
          <p:cNvPr id="47" name="rech9%20incivilité" descr=""/>
          <p:cNvPicPr/>
          <p:nvPr/>
        </p:nvPicPr>
        <p:blipFill>
          <a:blip r:embed="rId2"/>
          <a:stretch/>
        </p:blipFill>
        <p:spPr>
          <a:xfrm>
            <a:off x="380880" y="4154400"/>
            <a:ext cx="8305920" cy="27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11160" y="608040"/>
            <a:ext cx="8026560" cy="6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Verdana"/>
              </a:rPr>
              <a:t>Points commu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rech2%20incivilité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305920" cy="1700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038480" y="33526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52480" y="32004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sum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3352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re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419720" y="159984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914400" y="2895480"/>
            <a:ext cx="83808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362320" y="2209680"/>
            <a:ext cx="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15000" y="3429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de par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6172200" y="28954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rech9%20incivilité" descr=""/>
          <p:cNvPicPr/>
          <p:nvPr/>
        </p:nvPicPr>
        <p:blipFill>
          <a:blip r:embed="rId2"/>
          <a:stretch/>
        </p:blipFill>
        <p:spPr>
          <a:xfrm>
            <a:off x="380880" y="4154400"/>
            <a:ext cx="8305920" cy="2703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 flipH="1">
            <a:off x="1905120" y="3581280"/>
            <a:ext cx="30456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362320" y="3657600"/>
            <a:ext cx="167616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72200" y="38862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114440" y="41911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3657600"/>
            <a:ext cx="0" cy="243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609588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365760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56386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911160" y="608040"/>
            <a:ext cx="8026560" cy="6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Verdana"/>
              </a:rPr>
              <a:t>Différ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rech2%20incivilité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305920" cy="16999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400800" y="28954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 du 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2971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ès automa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971800" y="1523880"/>
            <a:ext cx="0" cy="1524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7620120" y="19807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553080" y="3276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62520" y="3429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rech9%20incivilité" descr=""/>
          <p:cNvPicPr/>
          <p:nvPr/>
        </p:nvPicPr>
        <p:blipFill>
          <a:blip r:embed="rId2"/>
          <a:stretch/>
        </p:blipFill>
        <p:spPr>
          <a:xfrm>
            <a:off x="533520" y="4154400"/>
            <a:ext cx="8305560" cy="2703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 flipV="1">
            <a:off x="4495680" y="38862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2437920" y="51814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5791320" y="3733920"/>
            <a:ext cx="121896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38098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4267080"/>
            <a:ext cx="2133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380988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rech2%20incivilité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8305560" cy="16999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911160" y="608040"/>
            <a:ext cx="8026560" cy="6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Verdana"/>
              </a:rPr>
              <a:t>Résumé ??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1905120"/>
            <a:ext cx="228600" cy="3045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81480" y="2057400"/>
            <a:ext cx="228600" cy="30492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62520" y="2514600"/>
            <a:ext cx="228600" cy="30492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438280" y="40384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s de susp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09480" y="2209320"/>
            <a:ext cx="2819520" cy="175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29000" y="2819160"/>
            <a:ext cx="60948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429000" y="2285640"/>
            <a:ext cx="1676520" cy="167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rech2%20incivilité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05920" cy="1699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911160" y="608040"/>
            <a:ext cx="8026560" cy="6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Verdana"/>
              </a:rPr>
              <a:t>Résumé ??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1981080"/>
            <a:ext cx="1219320" cy="53352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76920" y="2133720"/>
            <a:ext cx="1143000" cy="45720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438280" y="40384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(s) mot(s) clé(s) e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1294920" y="2438280"/>
            <a:ext cx="2133720" cy="1524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3429000" y="2590920"/>
            <a:ext cx="190512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911160" y="608040"/>
            <a:ext cx="8026560" cy="6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Verdana"/>
              </a:rPr>
              <a:t>Mots en contex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1523880"/>
            <a:ext cx="7863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Un </a:t>
            </a:r>
            <a:r>
              <a:rPr b="0" sz="2400" spc="-1" strike="noStrike" u="sng">
                <a:solidFill>
                  <a:srgbClr val="000000"/>
                </a:solidFill>
                <a:uFillTx/>
                <a:latin typeface="Times New Roman"/>
              </a:rPr>
              <a:t>résumé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est un discours sur un texte qui se veut une reproduction fidèle des idées du texte MAIS contracté. C'est un 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travail intellectuel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. Il est fait par des 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hommes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Un  </a:t>
            </a:r>
            <a:r>
              <a:rPr b="0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t en contexte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  est un extrait prélevé dans le texte, d'où l'importance des points de suspension. C'est une </a:t>
            </a:r>
            <a:r>
              <a:rPr b="0" i="1" sz="2400" spc="-1" strike="noStrike">
                <a:solidFill>
                  <a:srgbClr val="000000"/>
                </a:solidFill>
                <a:latin typeface="Times New Roman"/>
              </a:rPr>
              <a:t>opération automatisée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 faite par un </a:t>
            </a:r>
            <a:r>
              <a:rPr b="1" sz="2400" spc="-1" strike="noStrike">
                <a:solidFill>
                  <a:srgbClr val="000000"/>
                </a:solidFill>
                <a:latin typeface="Times New Roman"/>
              </a:rPr>
              <a:t>robot : le moteur de recherc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Automate de recherche, moteur de recherche, robot de recherche sont des </a:t>
            </a:r>
            <a:r>
              <a:rPr b="1" i="1" sz="2400" spc="-1" strike="noStrike" u="sng">
                <a:solidFill>
                  <a:srgbClr val="000000"/>
                </a:solidFill>
                <a:uFillTx/>
                <a:latin typeface="Times New Roman"/>
              </a:rPr>
              <a:t>synonymes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11160" y="608040"/>
            <a:ext cx="8026560" cy="6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Verdana"/>
              </a:rPr>
              <a:t>Mots en contex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129528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ur vérifier, cliquez sur le "résumé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81080" y="320040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rech6%20incivilité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5615280" cy="4040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248520" y="2209680"/>
            <a:ext cx="2666880" cy="2288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araît en bas le document en aperçu, avec surligné en jaune les mots clés dans le tex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543800" y="44956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028840" y="472428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911160" y="608040"/>
            <a:ext cx="8026560" cy="6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Verdana"/>
              </a:rPr>
              <a:t>pour élargir la recherc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81080" y="320040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rech2%20incivilité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8001000" cy="16383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838080" y="3733920"/>
            <a:ext cx="4419720" cy="1557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nom du site et certains répertoires de l'arborescence sont soulignés. En cliquant sur l'une des trois zones souligné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1752120" y="3047760"/>
            <a:ext cx="12956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2666520" y="3124080"/>
            <a:ext cx="38124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048120" y="3124080"/>
            <a:ext cx="15228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5T20:47:09Z</dcterms:created>
  <dc:creator>Isabelle - Fabre / Richard peirano</dc:creator>
  <dc:description/>
  <dc:language>en-US</dc:language>
  <cp:lastModifiedBy>meignan</cp:lastModifiedBy>
  <dcterms:modified xsi:type="dcterms:W3CDTF">2005-03-29T07:30:47Z</dcterms:modified>
  <cp:revision>13</cp:revision>
  <dc:subject/>
  <dc:title>Aucun titre de diapositive</dc:title>
</cp:coreProperties>
</file>