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6B3-1D4B-4B70-BF93-589E299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CE-3E7F-4556-A7FE-AC3F9492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BA6-5583-4F9F-9F1E-524F0BA9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A3A-0C13-4CA0-A8DB-AE445DAA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69B-BBDE-463A-AC20-A64F7EB4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F0C-A973-4284-BAFF-AF554F46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13D-ADBA-4860-A170-B1952D97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137-6452-4583-9DEA-515AE56A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32C-A0BF-47BE-A734-5197B2EC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C4C-5920-4AEC-AD43-9BD1999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2F-6B6E-4D22-BE40-29AAC05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7F0-BB38-40D0-A4DC-15FCBA9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5388-9BCA-4B14-AEE0-DFC8FE0C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2057400"/>
            <a:ext cx="5486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Rechercher des documents </a:t>
            </a:r>
            <a:br>
              <a:rPr sz="5400"/>
            </a:b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avec BCDI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2767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37339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344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a liste des documents trouv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tices%20-%20Thèmes" descr=""/>
          <p:cNvPicPr/>
          <p:nvPr/>
        </p:nvPicPr>
        <p:blipFill>
          <a:blip r:embed="rId1"/>
          <a:srcRect l="10257" t="11969" r="10257" b="12820"/>
          <a:stretch/>
        </p:blipFill>
        <p:spPr>
          <a:xfrm>
            <a:off x="609480" y="1066680"/>
            <a:ext cx="7848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a no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Fiche%20-%20agriculture%20ET%20France" descr=""/>
          <p:cNvPicPr/>
          <p:nvPr/>
        </p:nvPicPr>
        <p:blipFill>
          <a:blip r:embed="rId1"/>
          <a:srcRect l="10003" t="11998" r="10003" b="13332"/>
          <a:stretch/>
        </p:blipFill>
        <p:spPr>
          <a:xfrm>
            <a:off x="685800" y="1012680"/>
            <a:ext cx="7696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6705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CDI3 est un logiciel qui permet de rechercher des références de documents disponibles au CDI ou en ligne (livres, journaux, magazines, pages ou sites We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s00554_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86000" cy="1994040"/>
          </a:xfrm>
          <a:prstGeom prst="rect">
            <a:avLst/>
          </a:prstGeom>
          <a:ln w="0">
            <a:noFill/>
          </a:ln>
        </p:spPr>
      </p:pic>
      <p:pic>
        <p:nvPicPr>
          <p:cNvPr id="48" name="HH00623_" descr=""/>
          <p:cNvPicPr/>
          <p:nvPr/>
        </p:nvPicPr>
        <p:blipFill>
          <a:blip r:embed="rId2"/>
          <a:stretch/>
        </p:blipFill>
        <p:spPr>
          <a:xfrm>
            <a:off x="6324480" y="5181480"/>
            <a:ext cx="2362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dentification" descr=""/>
          <p:cNvPicPr/>
          <p:nvPr/>
        </p:nvPicPr>
        <p:blipFill>
          <a:blip r:embed="rId1"/>
          <a:srcRect l="10464" t="9301" r="10464" b="0"/>
          <a:stretch/>
        </p:blipFill>
        <p:spPr>
          <a:xfrm>
            <a:off x="1523880" y="1371600"/>
            <a:ext cx="5943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’écra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de recher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hèmes" descr=""/>
          <p:cNvPicPr/>
          <p:nvPr/>
        </p:nvPicPr>
        <p:blipFill>
          <a:blip r:embed="rId1"/>
          <a:srcRect l="10844" t="12849" r="10844" b="13253"/>
          <a:stretch/>
        </p:blipFill>
        <p:spPr>
          <a:xfrm>
            <a:off x="838080" y="1193760"/>
            <a:ext cx="7467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a recherche par thè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griculture%20ET%20France" descr=""/>
          <p:cNvPicPr/>
          <p:nvPr/>
        </p:nvPicPr>
        <p:blipFill>
          <a:blip r:embed="rId1"/>
          <a:srcRect l="10977" t="13007" r="10977" b="13824"/>
          <a:stretch/>
        </p:blipFill>
        <p:spPr>
          <a:xfrm>
            <a:off x="1143000" y="174132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es opérateurs boolé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8880" y="28954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e sont des mots de liaison qui permettent de construire une équation de rech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562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équation agriculture ET France va me permettre de rechercher des documents qui traitent de l’agriculture 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griculture%20ET%20France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51055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041360" y="38862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es opérateurs boolée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OU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9568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Sauf" descr=""/>
          <p:cNvPicPr/>
          <p:nvPr/>
        </p:nvPicPr>
        <p:blipFill>
          <a:blip r:embed="rId2"/>
          <a:stretch/>
        </p:blipFill>
        <p:spPr>
          <a:xfrm>
            <a:off x="2286000" y="4648320"/>
            <a:ext cx="4495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echerche par ti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ébut%20du%20titre" descr=""/>
          <p:cNvPicPr/>
          <p:nvPr/>
        </p:nvPicPr>
        <p:blipFill>
          <a:blip r:embed="rId1"/>
          <a:srcRect l="10346" t="13219" r="10346" b="13219"/>
          <a:stretch/>
        </p:blipFill>
        <p:spPr>
          <a:xfrm>
            <a:off x="2133720" y="2670120"/>
            <a:ext cx="49528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La recherche par aut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Début%20de%20l'auteur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7:15:57Z</dcterms:created>
  <dc:creator>Poste3</dc:creator>
  <dc:description/>
  <dc:language>en-US</dc:language>
  <cp:lastModifiedBy>CDI</cp:lastModifiedBy>
  <dcterms:modified xsi:type="dcterms:W3CDTF">2003-04-07T13:49:16Z</dcterms:modified>
  <cp:revision>25</cp:revision>
  <dc:subject/>
  <dc:title>Rechercher des documents  avec BCDI3</dc:title>
</cp:coreProperties>
</file>